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4.png" ContentType="image/png"/>
  <Override PartName="/ppt/media/image12.wmf" ContentType="image/x-wmf"/>
  <Override PartName="/ppt/media/image32.wmf" ContentType="image/x-wmf"/>
  <Override PartName="/ppt/media/image33.wmf" ContentType="image/x-wmf"/>
  <Override PartName="/ppt/media/image35.wmf" ContentType="image/x-wmf"/>
  <Override PartName="/ppt/media/image36.wmf" ContentType="image/x-wmf"/>
  <Override PartName="/ppt/media/image13.wmf" ContentType="image/x-wmf"/>
  <Override PartName="/ppt/media/image5.png" ContentType="image/png"/>
  <Override PartName="/ppt/media/image37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888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888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322CA-D851-4AB0-B643-027D4A8DD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CC781-541A-471F-AE5A-2B3B78ECF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24E-6A93-452D-B57F-5A64675A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4F4-E987-4F88-80A8-12373767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87E4-94BD-4D05-94FF-98A58C7D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F0FD-A4E4-46E8-AEC9-F5346DD0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22B-B288-4A4C-9975-52E34CC8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8DD-7FB2-4161-9BAC-E19152AD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E9D9-53D0-40C3-B808-FA3828B5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5355-9117-43CD-A50B-D60EAF24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6C07-AC12-4246-9CEA-CA547286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5F9-083B-434B-AB74-76F3CF1C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951-3896-4E76-957A-9E9B30AE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07D8-9FDF-4B23-A128-1B70685A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1979-C06A-4CA1-9E6A-637C60661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ction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al Equation Mod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289548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ith F. Widam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Qua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541B-8797-450D-B0CA-0B9FBAE5B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Termi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ifes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(or measured) variables, with scores you can “get your hands 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structure to be mod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t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bserved (i.e., unmeasured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d by covariances among manifest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of formally stating 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E5AF-064A-408A-9F65-030E24FFE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its pretty well, b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factor loading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fit is not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I &lt; 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I &lt; 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EA &gt; .05, lower limit does not include .05, so probability of close fit suggests rejecting clos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 indices – two larg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ing of sccaps on Spatial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ed uniqueness between addition and count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A64A-9FDA-4E19-818D-983B55FEB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add 1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s.model2 =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loadings of MVs on LVs in Lambda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visperc  + cubes    + lozen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=~ paracomp + sentcomp + word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=~ addition + countdot + scc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sccaps                   # added 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2 = cfa(hs.model2, data = hs39ra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ary(fit2, fit.measures = TRUE, standardized = TR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pect(fi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2 = modificationIndices(fi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(MI2, mi &gt;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0511-6037-4F68-8D1A-FCE80B245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A0F2-BEC9-46E0-BFDD-83735615D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3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71, .1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.042, .08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4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6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sperc           1.000                               5.308    0.7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s             0.385    0.065    5.918    0.000    2.046    0.4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zenges          1.005    0.138    7.291    0.000    5.333    0.5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=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comp          1.000                               2.967    0.8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comp          1.487    0.087   17.016    0.000    4.411    0.8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mean          2.162    0.130   16.685    0.000    6.414    0.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          1.000                              15.319    0.6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t          1.050    0.161    6.540    0.000   16.083    0.7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1.057    0.175    6.037    0.000   16.195    0.4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2.623    0.489    5.367    0.000   13.921    0.3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~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         7.127    1.294    5.506    0.000    0.453    0.4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24.463    7.552    3.239    0.001    0.301    0.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 9.377    3.505    2.675    0.007    0.206    0.2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4B2C-A82A-4D8D-817A-4F318FDFA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2 = modificationIndices(fit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2, mi &gt;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 rhs    mi     epc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7  spatial =~ sentcomp 6.079  -0.127  -0.673   -0.131   -0.1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9  spatial =~ addition 6.030  -0.923  -4.900   -0.196   -0.1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spatial =~ countdot 6.030   0.969   5.144    0.254    0.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1   verbal =~  visperc 8.438   0.571   1.695    0.242    0.2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3   verbal =~ lozenges 8.167  -0.629  -1.865   -0.207   -0.2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1    cubes ~~ lozenges 6.395   5.742   5.742    0.135    0.1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5    cubes ~~ addition 7.060 -14.481 -14.481   -0.123   -0.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9 lozenges ~~ sentcomp 8.640  -4.318  -4.318   -0.093   -0.0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5 paracomp ~~ wordmean 5.249  -4.565  -4.565   -0.171   -0.1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6 paracomp ~~ addition 7.835   7.608   7.608    0.087    0.0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5625-2B70-4140-AD4C-DDE80B2D6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airly good fit, but could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 has generally good, rather clos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maining modification indices were &gt;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3 an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ru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ed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for ‘cfa’ command in lav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 for ‘lavaan’ command in lav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3 and 4 are same as Mode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1411-5CD7-4E27-8524-22AAF5A0A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Model 2, standardize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2EBF-2160-4CB9-B736-72B4BD4F1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4" descr=""/>
          <p:cNvPicPr/>
          <p:nvPr/>
        </p:nvPicPr>
        <p:blipFill>
          <a:blip r:embed="rId1"/>
          <a:stretch/>
        </p:blipFill>
        <p:spPr>
          <a:xfrm>
            <a:off x="750960" y="2057400"/>
            <a:ext cx="76420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6 (very small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t attack survivors (all m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enc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memor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memor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8CFF-4A34-4F07-AE4B-712B54887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 Hypothes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: Single-Process Model: Are recall and recognition memory served by a single underlying process of Declarativ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: Dual-Process Recall: Is recall supported by two processes: Controlled Search (which supports fluency) and Declarativ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: Dual-Process Recognition: Is recognition supported by two processes: Recollection and Familiarity, the former of which supports rec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: Is a hybrid three-process model an improvement on Model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9B4F-513C-4AC6-927F-C78177CEE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1 – single memory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9599-4C1F-417F-BA82-1FDF03BA7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4" descr=""/>
          <p:cNvPicPr/>
          <p:nvPr/>
        </p:nvPicPr>
        <p:blipFill>
          <a:blip r:embed="rId1"/>
          <a:stretch/>
        </p:blipFill>
        <p:spPr>
          <a:xfrm>
            <a:off x="838080" y="1747800"/>
            <a:ext cx="74678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Terminology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soci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 (or bi-) directional (reciprocal) relation between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rect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-) directional (non-reciprocal) relation between two variables, such as IV and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direct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an IV on a DV through one or more intervening (or mediating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tal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direct and indirect effects of an IV on a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4393-F8C3-4ABE-98C9-7A4A78589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2 – dual-process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F596-6BE2-4E66-8579-ECA018007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2" descr=""/>
          <p:cNvPicPr/>
          <p:nvPr/>
        </p:nvPicPr>
        <p:blipFill>
          <a:blip r:embed="rId1"/>
          <a:stretch/>
        </p:blipFill>
        <p:spPr>
          <a:xfrm>
            <a:off x="855720" y="1763640"/>
            <a:ext cx="743256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3 – dual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9E78-BCE3-4DAA-BE8F-9E4B2E379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"/>
          <p:cNvPicPr/>
          <p:nvPr/>
        </p:nvPicPr>
        <p:blipFill>
          <a:blip r:embed="rId1"/>
          <a:stretch/>
        </p:blipFill>
        <p:spPr>
          <a:xfrm>
            <a:off x="901800" y="1660680"/>
            <a:ext cx="7340400" cy="50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4 – hybrid three-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D615-7E0A-4847-A333-381C0E92F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870120" y="1650960"/>
            <a:ext cx="740376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sample size leads to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hit, low power to “tell us we are wro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 parallel test constraint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lo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pay attention to whether model modifications lead to significan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D52B-BD7C-456F-BE08-5BB292A12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single-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1.gen = '# loadings of MVs on LVs in Lambda (L)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NA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NA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1B53-8916-4821-9623-5E850AFC5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single-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~~ 1*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1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.963*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~ 0.706*de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1*di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*age ; contr ~~ 0*coma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~ 0*age ; declr ~~ 0*coma ; declr ~~ 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age ; disru ~~ 0*coma ; disru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de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start(-.19)*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  start(-.40)*age + start(-.40)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9306-9514-4DDE-BE13-6186E8AA8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9D9C-4A2B-481F-93B8-46E7B20A3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          11.664    1.102   10.583    0.000   11.664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=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dur          16.907    1.598   10.583    0.000   16.907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  (L01)  -11.209    1.177   -9.521    0.000  -11.209   -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2   (L01)  -11.209    1.177   -9.521    0.000  -11.209   -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3)    3.264    0.364    8.970    0.000    3.260    0.8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2   (L03)    3.264    0.364    8.970    0.000    3.260    0.9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5)    2.444    0.322    7.587    0.000    2.442    0.7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5)    2.444    0.322    7.587    0.000    2.442    0.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7)    1.172    0.354    3.315    0.001    1.172    0.3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7)    1.172    0.354    3.315    0.001    1.172    0.3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774A-6E7F-4BDD-8806-312EF3747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 0.192    0.141    1.369    0.171    0.192    0.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397    0.135   -2.945    0.003   -0.398   -0.3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445    0.131   -3.405    0.001   -0.445   -0.4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~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180    0.129   -1.392    0.164   -0.180   -0.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          -0.343    0.105   -3.250    0.001   -0.416   -0.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13B4-5BB1-49DB-BD3E-E6922D0DE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1 = modificationIndices(fi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1, mi &gt;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rhs     mi    epc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9    disru =~ comadur  6.233  8.817   8.817    0.522    0.5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4  comadur ~~  recal2  5.001 -9.559  -9.559   -0.158   -0.1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6   recal1 ~~  recal2 10.221  3.076   3.076    0.227    0.2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8   recal1 ~~  recog2  5.114 -1.337  -1.337   -0.112   -0.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9   recal2 ~~  recog1  5.620 -1.567  -1.567   -0.130   -0.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ecog1 ~~  recog2 20.70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.127   3.127    0.293    0.2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CCB0-5BE3-4410-9CCC-5A808508E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600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539B-B293-4495-B2F2-974AE1D00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1-process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2.gen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start(11.6)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start(16.9)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tart(-0.2)*L09*recal1 + start(-0.2)*L09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3B21-CF1D-4BB4-B2CF-F226AD9FD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056D-7164-4ECA-8799-100741E35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9, .19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1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3.gen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start(11.6)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start(16.9)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reco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famil  =~ start(1.70)*L09*recog1 + start(1.70)*L09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FB9C-4271-4821-AE98-B7A98562D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1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~~ 1*age                coma  ~~ 1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.963*contr          recol ~~ 0.689*re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1*famil              disru ~~ 1*di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*age ; contr ~~ 0*coma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~ 0*age ; recol ~~ 0*coma  ; recol ~~ 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0*age ; famil ~~ 0*coma  ; famil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0*re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age ; disru ~~ 0*coma  ; disru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recol ; disru ~~ 0*famil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start(-.19)*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  start(-.40)*age + start(-.40)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FAD9-B003-4CDC-AE60-D56B71CE9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86AA-88B2-4FC8-B5E5-E4DAD1219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9, .19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95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2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          11.664    1.102   10.583    0.000   11.664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=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dur          16.907    1.598   10.583    0.000   16.907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  (L01)   11.209    1.177    9.521    0.000   11.209    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2   (L01)   11.209    1.177    9.521    0.000   11.209    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3)    3.331    0.360    9.253    0.000    3.331    0.8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2   (L03)    3.331    0.360    9.253    0.000    3.331    0.9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5)    2.300    0.359    6.413    0.000    2.300    0.6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5)    2.300    0.359    6.413    0.000    2.300    0.7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9)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.739    0.233    7.455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739    0.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9)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.739    0.233    7.455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739    0.5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7)    1.481    0.246    6.017    0.000    1.481    0.3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7)    1.481    0.246    6.017    0.000    1.481    0.4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1D20-0A89-4E29-BB74-50A1F7D99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192    0.141   -1.369    0.171   -0.192   -0.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406    0.133   -3.054    0.002   -0.406   -0.4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463    0.129   -3.584    0.000   -0.463   -0.4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~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180    0.129   -1.392    0.164   -0.180   -0.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            0.346    0.102    3.385    0.001    0.425    0.4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– no modification indices &gt; 5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, no need to add additional parameters to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2CAD-1AD1-48AF-BAC2-6020C045D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is the optim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memory relies on Re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relies on Recollection and Famili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llection declines as function of Age and 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arity unaffected by Age and 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 of LVs of Recollection and Familiarity could only be done with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678B-D734-400E-A331-AEA412621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SEM: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general overview of SEM approach to aligning conjectures with statist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intro to evaluating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fit: Overall and part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 indices: Statistical and prac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rmation fact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variable pa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 you can see glimmerings of broad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5F2C-21E8-4AEF-AA33-FA85CF671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SEM: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more to cover (in the fu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itudinal mo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grow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difference sco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lagged latent variabl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tu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la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profil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transit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 is bright [gotta wear shade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1597-2F06-433B-8FF8-34A5D681E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EM, we often deal with several variables, complex relations, and latent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elp explain, describe, and understand SEMs, we use path diagrams to visually represent 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EM programs use Path Diagrams for programming (e.g., AMOS, M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path dia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ot be useful for very large models (with lots of variables and lots of rel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 algebra may be more helpful with larg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2D67-0D35-4FA9-A6AD-6646204FD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literature, you will see researchers / programs draw diagrams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use RAM specification (McArdle &amp; McDonald, 198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are complete, as every estimated parameter has a place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path tracing rules to generate model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variations of path diagrams will be described today, but are not likely to appear often (because they are incompl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5907-52D3-4B8D-BF53-F10CDE82E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s of Path Diagrams: A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996840" y="1441440"/>
            <a:ext cx="768600" cy="85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22280" y="2733840"/>
            <a:ext cx="244440" cy="268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1027080" y="2523960"/>
            <a:ext cx="701640" cy="858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4"/>
          <a:stretch/>
        </p:blipFill>
        <p:spPr>
          <a:xfrm>
            <a:off x="422280" y="3886200"/>
            <a:ext cx="33012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5"/>
          <a:stretch/>
        </p:blipFill>
        <p:spPr>
          <a:xfrm>
            <a:off x="896760" y="3807000"/>
            <a:ext cx="1160640" cy="311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6"/>
          <a:stretch/>
        </p:blipFill>
        <p:spPr>
          <a:xfrm>
            <a:off x="708120" y="4757760"/>
            <a:ext cx="1146240" cy="158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7"/>
          <a:stretch/>
        </p:blipFill>
        <p:spPr>
          <a:xfrm>
            <a:off x="857160" y="5408640"/>
            <a:ext cx="712800" cy="873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61960" y="1599840"/>
            <a:ext cx="6476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s (or rectangles) = manifes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les (or ellipses) = lat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-headed arrows = variances 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headed arrows = reg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ngle = unit constant (for modeling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40AC-78F2-4957-A17F-F5D8032AF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 Basic 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Univariat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Univariate regression model with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Multipl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Medi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omplex 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 Confirmatory facto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Latent variable 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E927-A21D-47BE-A660-E4DD53669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Univariat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4615-2B6D-48A8-AA57-2416ED57F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36232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95288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5"/>
          <p:cNvCxnSpPr>
            <a:stCxn id="123" idx="3"/>
            <a:endCxn id="124" idx="1"/>
          </p:cNvCxnSpPr>
          <p:nvPr/>
        </p:nvCxnSpPr>
        <p:spPr>
          <a:xfrm>
            <a:off x="3504960" y="285732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6" name="AutoShape 8"/>
          <p:cNvCxnSpPr>
            <a:endCxn id="124" idx="3"/>
          </p:cNvCxnSpPr>
          <p:nvPr/>
        </p:nvCxnSpPr>
        <p:spPr>
          <a:xfrm flipH="1">
            <a:off x="6095520" y="28573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Univariat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A856-1F38-4389-9464-B65160491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371600" y="21114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962520" y="21114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5"/>
          <p:cNvCxnSpPr>
            <a:stCxn id="131" idx="3"/>
            <a:endCxn id="132" idx="1"/>
          </p:cNvCxnSpPr>
          <p:nvPr/>
        </p:nvCxnSpPr>
        <p:spPr>
          <a:xfrm>
            <a:off x="2514600" y="268236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4" name="Freeform 6"/>
          <p:cNvSpPr/>
          <p:nvPr/>
        </p:nvSpPr>
        <p:spPr>
          <a:xfrm rot="16200000">
            <a:off x="799920" y="24537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6705720" y="2111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AutoShape 8"/>
          <p:cNvCxnSpPr>
            <a:stCxn id="135" idx="2"/>
            <a:endCxn id="132" idx="3"/>
          </p:cNvCxnSpPr>
          <p:nvPr/>
        </p:nvCxnSpPr>
        <p:spPr>
          <a:xfrm flipH="1">
            <a:off x="5104800" y="268236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7" name="Freeform 9"/>
          <p:cNvSpPr/>
          <p:nvPr/>
        </p:nvSpPr>
        <p:spPr>
          <a:xfrm flipH="1" rot="5400000">
            <a:off x="7657920" y="24537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2666880" y="4572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5257800" y="4572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12"/>
          <p:cNvCxnSpPr>
            <a:stCxn id="138" idx="3"/>
            <a:endCxn id="139" idx="1"/>
          </p:cNvCxnSpPr>
          <p:nvPr/>
        </p:nvCxnSpPr>
        <p:spPr>
          <a:xfrm>
            <a:off x="3809880" y="5143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41" name="Freeform 13"/>
          <p:cNvSpPr/>
          <p:nvPr/>
        </p:nvSpPr>
        <p:spPr>
          <a:xfrm rot="16200000">
            <a:off x="2095200" y="4914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4"/>
          <p:cNvSpPr/>
          <p:nvPr/>
        </p:nvSpPr>
        <p:spPr>
          <a:xfrm flipH="1" rot="5400000">
            <a:off x="6286320" y="4914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Univariate regression model with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Model for covariances and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8C2D-8DCC-461D-8240-F94F57F95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37160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6252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"/>
          <p:cNvCxnSpPr>
            <a:stCxn id="147" idx="3"/>
            <a:endCxn id="148" idx="1"/>
          </p:cNvCxnSpPr>
          <p:nvPr/>
        </p:nvCxnSpPr>
        <p:spPr>
          <a:xfrm>
            <a:off x="2514600" y="2857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0" name="Freeform 6"/>
          <p:cNvSpPr/>
          <p:nvPr/>
        </p:nvSpPr>
        <p:spPr>
          <a:xfrm rot="16200000">
            <a:off x="799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6705720" y="22860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AutoShape 8"/>
          <p:cNvCxnSpPr>
            <a:stCxn id="151" idx="2"/>
            <a:endCxn id="148" idx="3"/>
          </p:cNvCxnSpPr>
          <p:nvPr/>
        </p:nvCxnSpPr>
        <p:spPr>
          <a:xfrm flipH="1">
            <a:off x="5104800" y="285732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3" name="Freeform 9"/>
          <p:cNvSpPr/>
          <p:nvPr/>
        </p:nvSpPr>
        <p:spPr>
          <a:xfrm flipH="1" rot="5400000">
            <a:off x="7657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1371600" y="487692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17"/>
          <p:cNvCxnSpPr>
            <a:stCxn id="154" idx="5"/>
          </p:cNvCxnSpPr>
          <p:nvPr/>
        </p:nvCxnSpPr>
        <p:spPr>
          <a:xfrm flipV="1">
            <a:off x="2228760" y="3428280"/>
            <a:ext cx="173448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56" name="AutoShape 18"/>
          <p:cNvCxnSpPr>
            <a:stCxn id="154" idx="0"/>
            <a:endCxn id="147" idx="2"/>
          </p:cNvCxnSpPr>
          <p:nvPr/>
        </p:nvCxnSpPr>
        <p:spPr>
          <a:xfrm flipV="1">
            <a:off x="1942920" y="3428640"/>
            <a:ext cx="108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7" name="Freeform 19"/>
          <p:cNvSpPr/>
          <p:nvPr/>
        </p:nvSpPr>
        <p:spPr>
          <a:xfrm rot="10800000">
            <a:off x="1599840" y="60199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SEM &amp; why should we be interes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is popular and has practical value because most or all prior parametric models can be clar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VA, linear regression, factor analysis, biometric models, etc. – all special cases of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tate-of-the-art ideas can be tested only (or certainly most easily) using S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s among factors “free of measurement err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of latent constr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of incomplete data, circumventing or surmounting bi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provides a framework for more complex (i.e., more realistic) representations of human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1136-CA77-475F-97FD-D097B77A1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Multipl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26BA-D1E4-4597-98C4-3774FB82A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37160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724280" y="35053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AutoShape 5"/>
          <p:cNvCxnSpPr>
            <a:stCxn id="162" idx="3"/>
          </p:cNvCxnSpPr>
          <p:nvPr/>
        </p:nvCxnSpPr>
        <p:spPr>
          <a:xfrm>
            <a:off x="2514600" y="2857320"/>
            <a:ext cx="2210400" cy="95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5" name="Freeform 6"/>
          <p:cNvSpPr/>
          <p:nvPr/>
        </p:nvSpPr>
        <p:spPr>
          <a:xfrm rot="16200000">
            <a:off x="799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6629400" y="35053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AutoShape 8"/>
          <p:cNvCxnSpPr>
            <a:stCxn id="166" idx="2"/>
            <a:endCxn id="163" idx="3"/>
          </p:cNvCxnSpPr>
          <p:nvPr/>
        </p:nvCxnSpPr>
        <p:spPr>
          <a:xfrm flipH="1">
            <a:off x="5866560" y="4076280"/>
            <a:ext cx="7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8" name="Freeform 9"/>
          <p:cNvSpPr/>
          <p:nvPr/>
        </p:nvSpPr>
        <p:spPr>
          <a:xfrm flipH="1" rot="5400000">
            <a:off x="7581600" y="38476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371600" y="46483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7"/>
          <p:cNvSpPr/>
          <p:nvPr/>
        </p:nvSpPr>
        <p:spPr>
          <a:xfrm rot="16200000">
            <a:off x="799920" y="49906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AutoShape 18"/>
          <p:cNvCxnSpPr>
            <a:stCxn id="169" idx="3"/>
          </p:cNvCxnSpPr>
          <p:nvPr/>
        </p:nvCxnSpPr>
        <p:spPr>
          <a:xfrm flipV="1">
            <a:off x="2514600" y="4343040"/>
            <a:ext cx="22104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72" name="AutoShape 19"/>
          <p:cNvCxnSpPr>
            <a:stCxn id="169" idx="0"/>
            <a:endCxn id="162" idx="2"/>
          </p:cNvCxnSpPr>
          <p:nvPr/>
        </p:nvCxnSpPr>
        <p:spPr>
          <a:xfrm flipV="1">
            <a:off x="1942920" y="3428280"/>
            <a:ext cx="108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5D87-DCD9-49B0-9D15-C2D14E2B6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3665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334120" y="52657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AutoShape 5"/>
          <p:cNvCxnSpPr/>
          <p:nvPr/>
        </p:nvCxnSpPr>
        <p:spPr>
          <a:xfrm>
            <a:off x="4419720" y="48085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0" name="Freeform 6"/>
          <p:cNvSpPr/>
          <p:nvPr/>
        </p:nvSpPr>
        <p:spPr>
          <a:xfrm>
            <a:off x="3505320" y="16081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6934320" y="52657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AutoShape 8"/>
          <p:cNvCxnSpPr>
            <a:stCxn id="181" idx="2"/>
            <a:endCxn id="178" idx="3"/>
          </p:cNvCxnSpPr>
          <p:nvPr/>
        </p:nvCxnSpPr>
        <p:spPr>
          <a:xfrm flipH="1">
            <a:off x="6476760" y="58370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3" name="Freeform 9"/>
          <p:cNvSpPr/>
          <p:nvPr/>
        </p:nvSpPr>
        <p:spPr>
          <a:xfrm flipH="1" rot="5400000">
            <a:off x="7886520" y="5608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371600" y="52657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1"/>
          <p:cNvSpPr/>
          <p:nvPr/>
        </p:nvSpPr>
        <p:spPr>
          <a:xfrm rot="16200000">
            <a:off x="799920" y="5608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12"/>
          <p:cNvCxnSpPr>
            <a:stCxn id="184" idx="3"/>
            <a:endCxn id="178" idx="1"/>
          </p:cNvCxnSpPr>
          <p:nvPr/>
        </p:nvCxnSpPr>
        <p:spPr>
          <a:xfrm>
            <a:off x="2514600" y="5837040"/>
            <a:ext cx="282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87" name="AutoShape 13"/>
          <p:cNvCxnSpPr/>
          <p:nvPr/>
        </p:nvCxnSpPr>
        <p:spPr>
          <a:xfrm flipV="1">
            <a:off x="2514240" y="480816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8" name="Oval 14"/>
          <p:cNvSpPr/>
          <p:nvPr/>
        </p:nvSpPr>
        <p:spPr>
          <a:xfrm>
            <a:off x="3276720" y="19890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15"/>
          <p:cNvCxnSpPr>
            <a:stCxn id="188" idx="4"/>
            <a:endCxn id="177" idx="0"/>
          </p:cNvCxnSpPr>
          <p:nvPr/>
        </p:nvCxnSpPr>
        <p:spPr>
          <a:xfrm>
            <a:off x="3847680" y="31320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0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B881-7669-49D7-BCCF-5845862CA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000680" y="26748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58080" y="4275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AutoShape 5"/>
          <p:cNvCxnSpPr/>
          <p:nvPr/>
        </p:nvCxnSpPr>
        <p:spPr>
          <a:xfrm>
            <a:off x="5143680" y="381780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9" name="Freeform 6"/>
          <p:cNvSpPr/>
          <p:nvPr/>
        </p:nvSpPr>
        <p:spPr>
          <a:xfrm>
            <a:off x="4229280" y="221760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9"/>
          <p:cNvSpPr/>
          <p:nvPr/>
        </p:nvSpPr>
        <p:spPr>
          <a:xfrm flipH="1" rot="5400000">
            <a:off x="7086600" y="4617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2095560" y="4275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"/>
          <p:cNvSpPr/>
          <p:nvPr/>
        </p:nvSpPr>
        <p:spPr>
          <a:xfrm rot="16200000">
            <a:off x="1523880" y="4617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AutoShape 12"/>
          <p:cNvCxnSpPr>
            <a:stCxn id="201" idx="3"/>
            <a:endCxn id="197" idx="1"/>
          </p:cNvCxnSpPr>
          <p:nvPr/>
        </p:nvCxnSpPr>
        <p:spPr>
          <a:xfrm>
            <a:off x="3238560" y="4846320"/>
            <a:ext cx="282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04" name="AutoShape 13"/>
          <p:cNvCxnSpPr/>
          <p:nvPr/>
        </p:nvCxnSpPr>
        <p:spPr>
          <a:xfrm flipV="1">
            <a:off x="3238200" y="381744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Complex path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297D-F363-4339-89E6-B650A48AB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84400" y="2735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899400" y="34210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"/>
          <p:cNvCxnSpPr>
            <a:stCxn id="210" idx="3"/>
            <a:endCxn id="213" idx="1"/>
          </p:cNvCxnSpPr>
          <p:nvPr/>
        </p:nvCxnSpPr>
        <p:spPr>
          <a:xfrm flipV="1">
            <a:off x="2327040" y="2544480"/>
            <a:ext cx="19818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14" name="Freeform 6"/>
          <p:cNvSpPr/>
          <p:nvPr/>
        </p:nvSpPr>
        <p:spPr>
          <a:xfrm rot="16200000">
            <a:off x="612720" y="3077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 flipH="1" rot="5400000">
            <a:off x="7927920" y="37634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184400" y="45640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"/>
          <p:cNvSpPr/>
          <p:nvPr/>
        </p:nvSpPr>
        <p:spPr>
          <a:xfrm rot="16200000">
            <a:off x="612720" y="49064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2"/>
          <p:cNvCxnSpPr>
            <a:stCxn id="210" idx="3"/>
            <a:endCxn id="211" idx="1"/>
          </p:cNvCxnSpPr>
          <p:nvPr/>
        </p:nvCxnSpPr>
        <p:spPr>
          <a:xfrm>
            <a:off x="2327400" y="3306240"/>
            <a:ext cx="4572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19" name="AutoShape 13"/>
          <p:cNvCxnSpPr>
            <a:stCxn id="216" idx="0"/>
            <a:endCxn id="210" idx="2"/>
          </p:cNvCxnSpPr>
          <p:nvPr/>
        </p:nvCxnSpPr>
        <p:spPr>
          <a:xfrm flipV="1">
            <a:off x="1755360" y="38775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213" name="Rectangle 16"/>
          <p:cNvSpPr/>
          <p:nvPr/>
        </p:nvSpPr>
        <p:spPr>
          <a:xfrm>
            <a:off x="4308480" y="197316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4308480" y="50976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AutoShape 20"/>
          <p:cNvCxnSpPr>
            <a:stCxn id="213" idx="3"/>
            <a:endCxn id="211" idx="0"/>
          </p:cNvCxnSpPr>
          <p:nvPr/>
        </p:nvCxnSpPr>
        <p:spPr>
          <a:xfrm>
            <a:off x="5451120" y="2544840"/>
            <a:ext cx="201996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2" name="AutoShape 21"/>
          <p:cNvCxnSpPr>
            <a:stCxn id="213" idx="2"/>
            <a:endCxn id="220" idx="0"/>
          </p:cNvCxnSpPr>
          <p:nvPr/>
        </p:nvCxnSpPr>
        <p:spPr>
          <a:xfrm>
            <a:off x="4879440" y="3116160"/>
            <a:ext cx="1080" cy="198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3" name="AutoShape 22"/>
          <p:cNvCxnSpPr>
            <a:stCxn id="220" idx="3"/>
            <a:endCxn id="211" idx="2"/>
          </p:cNvCxnSpPr>
          <p:nvPr/>
        </p:nvCxnSpPr>
        <p:spPr>
          <a:xfrm flipV="1">
            <a:off x="5451120" y="4563360"/>
            <a:ext cx="201996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4" name="AutoShape 23"/>
          <p:cNvCxnSpPr>
            <a:stCxn id="216" idx="3"/>
          </p:cNvCxnSpPr>
          <p:nvPr/>
        </p:nvCxnSpPr>
        <p:spPr>
          <a:xfrm flipV="1">
            <a:off x="2327040" y="3115440"/>
            <a:ext cx="198180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5" name="AutoShape 24"/>
          <p:cNvCxnSpPr>
            <a:stCxn id="216" idx="3"/>
            <a:endCxn id="220" idx="1"/>
          </p:cNvCxnSpPr>
          <p:nvPr/>
        </p:nvCxnSpPr>
        <p:spPr>
          <a:xfrm>
            <a:off x="2327040" y="5135400"/>
            <a:ext cx="1981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26" name="Freeform 25"/>
          <p:cNvSpPr/>
          <p:nvPr/>
        </p:nvSpPr>
        <p:spPr>
          <a:xfrm>
            <a:off x="4537080" y="15159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6"/>
          <p:cNvSpPr/>
          <p:nvPr/>
        </p:nvSpPr>
        <p:spPr>
          <a:xfrm flipV="1">
            <a:off x="4537080" y="624060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6594480" y="6161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Confirmatory factor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72A0-4E95-4C7B-B544-27341D559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1"/>
          <p:cNvSpPr/>
          <p:nvPr/>
        </p:nvSpPr>
        <p:spPr>
          <a:xfrm>
            <a:off x="6594480" y="6161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522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AutoShape 4"/>
          <p:cNvCxnSpPr>
            <a:stCxn id="237" idx="4"/>
            <a:endCxn id="238" idx="0"/>
          </p:cNvCxnSpPr>
          <p:nvPr/>
        </p:nvCxnSpPr>
        <p:spPr>
          <a:xfrm flipH="1">
            <a:off x="2018520" y="3200040"/>
            <a:ext cx="7628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38" name="Rectangle 7"/>
          <p:cNvSpPr/>
          <p:nvPr/>
        </p:nvSpPr>
        <p:spPr>
          <a:xfrm>
            <a:off x="144792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8"/>
          <p:cNvSpPr/>
          <p:nvPr/>
        </p:nvSpPr>
        <p:spPr>
          <a:xfrm rot="10800000">
            <a:off x="167616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AutoShape 9"/>
          <p:cNvCxnSpPr>
            <a:stCxn id="237" idx="4"/>
            <a:endCxn id="235" idx="0"/>
          </p:cNvCxnSpPr>
          <p:nvPr/>
        </p:nvCxnSpPr>
        <p:spPr>
          <a:xfrm flipH="1">
            <a:off x="723600" y="3200040"/>
            <a:ext cx="20577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41" name="Rectangle 11"/>
          <p:cNvSpPr/>
          <p:nvPr/>
        </p:nvSpPr>
        <p:spPr>
          <a:xfrm>
            <a:off x="274320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40384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AutoShape 14"/>
          <p:cNvCxnSpPr>
            <a:stCxn id="244" idx="4"/>
            <a:endCxn id="245" idx="0"/>
          </p:cNvCxnSpPr>
          <p:nvPr/>
        </p:nvCxnSpPr>
        <p:spPr>
          <a:xfrm>
            <a:off x="5905080" y="320004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6" name="AutoShape 15"/>
          <p:cNvCxnSpPr>
            <a:stCxn id="244" idx="4"/>
            <a:endCxn id="242" idx="0"/>
          </p:cNvCxnSpPr>
          <p:nvPr/>
        </p:nvCxnSpPr>
        <p:spPr>
          <a:xfrm flipH="1">
            <a:off x="4609800" y="3200040"/>
            <a:ext cx="12960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7" name="AutoShape 16"/>
          <p:cNvCxnSpPr>
            <a:stCxn id="244" idx="4"/>
            <a:endCxn id="248" idx="0"/>
          </p:cNvCxnSpPr>
          <p:nvPr/>
        </p:nvCxnSpPr>
        <p:spPr>
          <a:xfrm>
            <a:off x="5905080" y="3200040"/>
            <a:ext cx="12963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9" name="AutoShape 17"/>
          <p:cNvCxnSpPr>
            <a:stCxn id="237" idx="4"/>
            <a:endCxn id="242" idx="0"/>
          </p:cNvCxnSpPr>
          <p:nvPr/>
        </p:nvCxnSpPr>
        <p:spPr>
          <a:xfrm>
            <a:off x="2781360" y="3200040"/>
            <a:ext cx="182952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50" name="AutoShape 18"/>
          <p:cNvCxnSpPr>
            <a:stCxn id="237" idx="4"/>
            <a:endCxn id="241" idx="0"/>
          </p:cNvCxnSpPr>
          <p:nvPr/>
        </p:nvCxnSpPr>
        <p:spPr>
          <a:xfrm>
            <a:off x="2781360" y="3200040"/>
            <a:ext cx="5342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1" name="Freeform 19"/>
          <p:cNvSpPr/>
          <p:nvPr/>
        </p:nvSpPr>
        <p:spPr>
          <a:xfrm>
            <a:off x="5562720" y="16765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0"/>
          <p:cNvSpPr/>
          <p:nvPr/>
        </p:nvSpPr>
        <p:spPr>
          <a:xfrm flipV="1">
            <a:off x="426708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1"/>
          <p:cNvSpPr/>
          <p:nvPr/>
        </p:nvSpPr>
        <p:spPr>
          <a:xfrm rot="10800000">
            <a:off x="38052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533412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3"/>
          <p:cNvSpPr/>
          <p:nvPr/>
        </p:nvSpPr>
        <p:spPr>
          <a:xfrm rot="10800000">
            <a:off x="556236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4"/>
          <p:cNvSpPr/>
          <p:nvPr/>
        </p:nvSpPr>
        <p:spPr>
          <a:xfrm>
            <a:off x="662940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79246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28"/>
          <p:cNvCxnSpPr>
            <a:stCxn id="244" idx="4"/>
            <a:endCxn id="255" idx="0"/>
          </p:cNvCxnSpPr>
          <p:nvPr/>
        </p:nvCxnSpPr>
        <p:spPr>
          <a:xfrm>
            <a:off x="5905080" y="3200040"/>
            <a:ext cx="2591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7" name="Freeform 29"/>
          <p:cNvSpPr/>
          <p:nvPr/>
        </p:nvSpPr>
        <p:spPr>
          <a:xfrm flipV="1">
            <a:off x="815328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0"/>
          <p:cNvSpPr/>
          <p:nvPr/>
        </p:nvSpPr>
        <p:spPr>
          <a:xfrm rot="10800000">
            <a:off x="685764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1"/>
          <p:cNvSpPr/>
          <p:nvPr/>
        </p:nvSpPr>
        <p:spPr>
          <a:xfrm rot="10800000">
            <a:off x="297144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2209680" y="2057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33"/>
          <p:cNvSpPr/>
          <p:nvPr/>
        </p:nvSpPr>
        <p:spPr>
          <a:xfrm>
            <a:off x="5334120" y="2057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34"/>
          <p:cNvCxnSpPr>
            <a:stCxn id="237" idx="7"/>
            <a:endCxn id="244" idx="1"/>
          </p:cNvCxnSpPr>
          <p:nvPr/>
        </p:nvCxnSpPr>
        <p:spPr>
          <a:xfrm flipH="1" rot="16200000">
            <a:off x="4342680" y="1067040"/>
            <a:ext cx="2160" cy="2315520"/>
          </a:xfrm>
          <a:prstGeom prst="curvedConnector5">
            <a:avLst>
              <a:gd name="adj1" fmla="val -24900000"/>
              <a:gd name="adj2" fmla="val 49992"/>
              <a:gd name="adj3" fmla="val -249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1" name="Freeform 35"/>
          <p:cNvSpPr/>
          <p:nvPr/>
        </p:nvSpPr>
        <p:spPr>
          <a:xfrm>
            <a:off x="2438280" y="16765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14300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AutoShape 3"/>
          <p:cNvCxnSpPr>
            <a:stCxn id="264" idx="4"/>
            <a:endCxn id="265" idx="0"/>
          </p:cNvCxnSpPr>
          <p:nvPr/>
        </p:nvCxnSpPr>
        <p:spPr>
          <a:xfrm>
            <a:off x="2323800" y="476244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5" name="Rectangle 4"/>
          <p:cNvSpPr/>
          <p:nvPr/>
        </p:nvSpPr>
        <p:spPr>
          <a:xfrm>
            <a:off x="243828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5"/>
          <p:cNvSpPr/>
          <p:nvPr/>
        </p:nvSpPr>
        <p:spPr>
          <a:xfrm rot="10800000">
            <a:off x="26665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AutoShape 6"/>
          <p:cNvCxnSpPr>
            <a:stCxn id="264" idx="4"/>
            <a:endCxn id="262" idx="0"/>
          </p:cNvCxnSpPr>
          <p:nvPr/>
        </p:nvCxnSpPr>
        <p:spPr>
          <a:xfrm flipH="1">
            <a:off x="1713960" y="476244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8" name="Rectangle 7"/>
          <p:cNvSpPr/>
          <p:nvPr/>
        </p:nvSpPr>
        <p:spPr>
          <a:xfrm>
            <a:off x="4800600" y="533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95880" y="533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10"/>
          <p:cNvCxnSpPr>
            <a:stCxn id="271" idx="4"/>
            <a:endCxn id="272" idx="0"/>
          </p:cNvCxnSpPr>
          <p:nvPr/>
        </p:nvCxnSpPr>
        <p:spPr>
          <a:xfrm flipH="1">
            <a:off x="5829120" y="476244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3" name="AutoShape 12"/>
          <p:cNvCxnSpPr>
            <a:stCxn id="271" idx="4"/>
            <a:endCxn id="274" idx="0"/>
          </p:cNvCxnSpPr>
          <p:nvPr/>
        </p:nvCxnSpPr>
        <p:spPr>
          <a:xfrm>
            <a:off x="7124400" y="47624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5" name="AutoShape 13"/>
          <p:cNvCxnSpPr>
            <a:stCxn id="276" idx="0"/>
            <a:endCxn id="269" idx="2"/>
          </p:cNvCxnSpPr>
          <p:nvPr/>
        </p:nvCxnSpPr>
        <p:spPr>
          <a:xfrm flipV="1">
            <a:off x="6057720" y="167616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7" name="AutoShape 14"/>
          <p:cNvCxnSpPr>
            <a:stCxn id="276" idx="0"/>
            <a:endCxn id="268" idx="2"/>
          </p:cNvCxnSpPr>
          <p:nvPr/>
        </p:nvCxnSpPr>
        <p:spPr>
          <a:xfrm flipH="1" flipV="1">
            <a:off x="5371560" y="167616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78" name="Freeform 15"/>
          <p:cNvSpPr/>
          <p:nvPr/>
        </p:nvSpPr>
        <p:spPr>
          <a:xfrm>
            <a:off x="6781680" y="32385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6"/>
          <p:cNvSpPr/>
          <p:nvPr/>
        </p:nvSpPr>
        <p:spPr>
          <a:xfrm>
            <a:off x="6324480" y="763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7"/>
          <p:cNvSpPr/>
          <p:nvPr/>
        </p:nvSpPr>
        <p:spPr>
          <a:xfrm rot="10800000">
            <a:off x="137124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525780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9"/>
          <p:cNvSpPr/>
          <p:nvPr/>
        </p:nvSpPr>
        <p:spPr>
          <a:xfrm rot="10800000">
            <a:off x="548604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0"/>
          <p:cNvSpPr/>
          <p:nvPr/>
        </p:nvSpPr>
        <p:spPr>
          <a:xfrm>
            <a:off x="655308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784872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AutoShape 22"/>
          <p:cNvCxnSpPr>
            <a:stCxn id="271" idx="4"/>
            <a:endCxn id="282" idx="0"/>
          </p:cNvCxnSpPr>
          <p:nvPr/>
        </p:nvCxnSpPr>
        <p:spPr>
          <a:xfrm>
            <a:off x="7124760" y="476244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84" name="Freeform 23"/>
          <p:cNvSpPr/>
          <p:nvPr/>
        </p:nvSpPr>
        <p:spPr>
          <a:xfrm flipV="1">
            <a:off x="80773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"/>
          <p:cNvSpPr/>
          <p:nvPr/>
        </p:nvSpPr>
        <p:spPr>
          <a:xfrm rot="10800000">
            <a:off x="67813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5"/>
          <p:cNvSpPr/>
          <p:nvPr/>
        </p:nvSpPr>
        <p:spPr>
          <a:xfrm flipV="1" rot="10800000">
            <a:off x="5028840" y="763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6"/>
          <p:cNvSpPr/>
          <p:nvPr/>
        </p:nvSpPr>
        <p:spPr>
          <a:xfrm>
            <a:off x="1752480" y="361944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7"/>
          <p:cNvSpPr/>
          <p:nvPr/>
        </p:nvSpPr>
        <p:spPr>
          <a:xfrm>
            <a:off x="6553080" y="361944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9"/>
          <p:cNvSpPr/>
          <p:nvPr/>
        </p:nvSpPr>
        <p:spPr>
          <a:xfrm>
            <a:off x="1981080" y="32385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1"/>
          <p:cNvSpPr/>
          <p:nvPr/>
        </p:nvSpPr>
        <p:spPr>
          <a:xfrm>
            <a:off x="5486400" y="21337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AutoShape 33"/>
          <p:cNvCxnSpPr>
            <a:stCxn id="264" idx="7"/>
            <a:endCxn id="276" idx="2"/>
          </p:cNvCxnSpPr>
          <p:nvPr/>
        </p:nvCxnSpPr>
        <p:spPr>
          <a:xfrm flipV="1">
            <a:off x="2728800" y="2704320"/>
            <a:ext cx="275832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89" name="AutoShape 34"/>
          <p:cNvCxnSpPr>
            <a:stCxn id="264" idx="6"/>
            <a:endCxn id="271" idx="2"/>
          </p:cNvCxnSpPr>
          <p:nvPr/>
        </p:nvCxnSpPr>
        <p:spPr>
          <a:xfrm>
            <a:off x="2895480" y="4190760"/>
            <a:ext cx="3658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90" name="AutoShape 35"/>
          <p:cNvCxnSpPr>
            <a:endCxn id="271" idx="1"/>
          </p:cNvCxnSpPr>
          <p:nvPr/>
        </p:nvCxnSpPr>
        <p:spPr>
          <a:xfrm>
            <a:off x="6324480" y="3238200"/>
            <a:ext cx="39600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91" name="Freeform 36"/>
          <p:cNvSpPr/>
          <p:nvPr/>
        </p:nvSpPr>
        <p:spPr>
          <a:xfrm flipH="1" rot="5400000">
            <a:off x="6438600" y="2476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43B9-B1E8-4EAE-9619-440C4EB13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45720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 Latent variabl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for multitrait-multimethod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A170-9561-4822-97AC-7F2C713B9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re complex measurement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752480" y="941400"/>
            <a:ext cx="563904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477120" cy="59436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E205-5A1C-4C64-90F6-744B32850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re complex latent variable path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al Regress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ating Expectations wi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Tracing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334F-F008-47F0-820B-51B1F1433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intercept, predicted value of Y when predictors (X) are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slope coefficient, predicted amount of change in Y for a 1-unit change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residual, part of Y not predicted by X, uncorrelated with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composed into variance explain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unexplained variance (vari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2286000" y="1492200"/>
          <a:ext cx="441972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492200"/>
                    <a:ext cx="44197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F151-ED65-45E0-9DF1-3691E3D26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ression and Structural Reg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between Theory an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requires researchers to be explicit about hypotheses (and assum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ccessible framework for articulation of theoretical conj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ramework for represen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s key ques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theory or data driving the structural model being te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not oversell contributions of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-called “causal models” in SEM provide no more “causal analysis” than other forms of data analysis – and maybe rather weaker, if data are 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BAA7-3608-4E54-AF7F-60D331672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1333440" y="25909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4000680" y="25909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6438960" y="259092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AutoShape 6"/>
          <p:cNvCxnSpPr>
            <a:stCxn id="313" idx="3"/>
            <a:endCxn id="314" idx="1"/>
          </p:cNvCxnSpPr>
          <p:nvPr/>
        </p:nvCxnSpPr>
        <p:spPr>
          <a:xfrm>
            <a:off x="2476440" y="3161880"/>
            <a:ext cx="1524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AutoShape 7"/>
          <p:cNvCxnSpPr>
            <a:stCxn id="315" idx="2"/>
            <a:endCxn id="314" idx="3"/>
          </p:cNvCxnSpPr>
          <p:nvPr/>
        </p:nvCxnSpPr>
        <p:spPr>
          <a:xfrm flipH="1">
            <a:off x="5143320" y="316188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Freeform 8"/>
          <p:cNvSpPr/>
          <p:nvPr/>
        </p:nvSpPr>
        <p:spPr>
          <a:xfrm rot="5400000">
            <a:off x="7429320" y="2895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933640" y="251460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7962840" y="251460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304920" y="2225520"/>
            <a:ext cx="838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 flipH="1" rot="16200000">
            <a:off x="722880" y="2895840"/>
            <a:ext cx="685800" cy="533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19"/>
          <p:cNvGraphicFramePr/>
          <p:nvPr/>
        </p:nvGraphicFramePr>
        <p:xfrm>
          <a:off x="5040360" y="4827600"/>
          <a:ext cx="29876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0360" y="4827600"/>
                    <a:ext cx="29876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20"/>
          <p:cNvSpPr/>
          <p:nvPr/>
        </p:nvSpPr>
        <p:spPr>
          <a:xfrm>
            <a:off x="5676840" y="2620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5D3E-55D0-4250-8063-64C06887B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Model for Covari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137160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403848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6477120" y="175248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6"/>
          <p:cNvCxnSpPr>
            <a:stCxn id="329" idx="3"/>
            <a:endCxn id="330" idx="1"/>
          </p:cNvCxnSpPr>
          <p:nvPr/>
        </p:nvCxnSpPr>
        <p:spPr>
          <a:xfrm>
            <a:off x="2514240" y="23238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AutoShape 7"/>
          <p:cNvCxnSpPr>
            <a:stCxn id="331" idx="2"/>
            <a:endCxn id="330" idx="3"/>
          </p:cNvCxnSpPr>
          <p:nvPr/>
        </p:nvCxnSpPr>
        <p:spPr>
          <a:xfrm flipH="1">
            <a:off x="5180760" y="232380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Freeform 8"/>
          <p:cNvSpPr/>
          <p:nvPr/>
        </p:nvSpPr>
        <p:spPr>
          <a:xfrm rot="5400000">
            <a:off x="746748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2971800" y="167652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8001000" y="1676520"/>
            <a:ext cx="838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1522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1371600" y="403848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AutoShape 13"/>
          <p:cNvCxnSpPr>
            <a:stCxn id="338" idx="5"/>
          </p:cNvCxnSpPr>
          <p:nvPr/>
        </p:nvCxnSpPr>
        <p:spPr>
          <a:xfrm flipV="1">
            <a:off x="2228400" y="2894760"/>
            <a:ext cx="18104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AutoShape 14"/>
          <p:cNvCxnSpPr>
            <a:stCxn id="338" idx="0"/>
            <a:endCxn id="329" idx="2"/>
          </p:cNvCxnSpPr>
          <p:nvPr/>
        </p:nvCxnSpPr>
        <p:spPr>
          <a:xfrm flipV="1">
            <a:off x="1942920" y="2894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Freeform 15"/>
          <p:cNvSpPr/>
          <p:nvPr/>
        </p:nvSpPr>
        <p:spPr>
          <a:xfrm flipH="1" rot="16200000">
            <a:off x="7617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6"/>
          <p:cNvSpPr/>
          <p:nvPr/>
        </p:nvSpPr>
        <p:spPr>
          <a:xfrm flipH="1" rot="10800000">
            <a:off x="1599120" y="5181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2895480" y="296712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1905120" y="32004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19"/>
          <p:cNvGraphicFramePr/>
          <p:nvPr/>
        </p:nvGraphicFramePr>
        <p:xfrm>
          <a:off x="4381560" y="4827600"/>
          <a:ext cx="43052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4827600"/>
                    <a:ext cx="43052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 Box 20"/>
          <p:cNvSpPr/>
          <p:nvPr/>
        </p:nvSpPr>
        <p:spPr>
          <a:xfrm>
            <a:off x="5715000" y="178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D071-C73D-4DF6-8722-E53679495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Model with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137160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03848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AutoShape 5"/>
          <p:cNvCxnSpPr>
            <a:stCxn id="351" idx="3"/>
            <a:endCxn id="352" idx="1"/>
          </p:cNvCxnSpPr>
          <p:nvPr/>
        </p:nvCxnSpPr>
        <p:spPr>
          <a:xfrm>
            <a:off x="2514240" y="23238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Freeform 6"/>
          <p:cNvSpPr/>
          <p:nvPr/>
        </p:nvSpPr>
        <p:spPr>
          <a:xfrm rot="5400000">
            <a:off x="51051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971800" y="167652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56386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1522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1371600" y="403848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AutoShape 11"/>
          <p:cNvCxnSpPr>
            <a:stCxn id="358" idx="5"/>
          </p:cNvCxnSpPr>
          <p:nvPr/>
        </p:nvCxnSpPr>
        <p:spPr>
          <a:xfrm flipV="1">
            <a:off x="2228400" y="2894760"/>
            <a:ext cx="18104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AutoShape 12"/>
          <p:cNvCxnSpPr>
            <a:stCxn id="358" idx="0"/>
            <a:endCxn id="351" idx="2"/>
          </p:cNvCxnSpPr>
          <p:nvPr/>
        </p:nvCxnSpPr>
        <p:spPr>
          <a:xfrm flipV="1">
            <a:off x="1942920" y="2894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Freeform 13"/>
          <p:cNvSpPr/>
          <p:nvPr/>
        </p:nvSpPr>
        <p:spPr>
          <a:xfrm flipH="1" rot="16200000">
            <a:off x="7617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4"/>
          <p:cNvSpPr/>
          <p:nvPr/>
        </p:nvSpPr>
        <p:spPr>
          <a:xfrm flipH="1" rot="10800000">
            <a:off x="1599120" y="5181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2895480" y="293364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6"/>
          <p:cNvSpPr/>
          <p:nvPr/>
        </p:nvSpPr>
        <p:spPr>
          <a:xfrm>
            <a:off x="1905120" y="32004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17"/>
          <p:cNvGraphicFramePr/>
          <p:nvPr/>
        </p:nvGraphicFramePr>
        <p:xfrm>
          <a:off x="4381560" y="4827600"/>
          <a:ext cx="43052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4827600"/>
                    <a:ext cx="43052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30F0-F2C9-419F-AC13-7A9DC91E9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Shortened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structural model has a set of structural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/ covarianc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estimat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between structural expectations (with estimated parameters) and observed statistics (e.g., covariances, means) is model mi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s can be calculated based on a path diagram or computed algebra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5DAA-7510-4B33-9934-3D7D1CE90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3"/>
          <p:cNvSpPr/>
          <p:nvPr/>
        </p:nvSpPr>
        <p:spPr>
          <a:xfrm>
            <a:off x="548640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"/>
          <p:cNvSpPr/>
          <p:nvPr/>
        </p:nvSpPr>
        <p:spPr>
          <a:xfrm>
            <a:off x="289548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289548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548640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7"/>
          <p:cNvCxnSpPr>
            <a:stCxn id="375" idx="6"/>
            <a:endCxn id="374" idx="2"/>
          </p:cNvCxnSpPr>
          <p:nvPr/>
        </p:nvCxnSpPr>
        <p:spPr>
          <a:xfrm>
            <a:off x="3657600" y="2361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AutoShape 8"/>
          <p:cNvCxnSpPr>
            <a:stCxn id="376" idx="6"/>
            <a:endCxn id="377" idx="2"/>
          </p:cNvCxnSpPr>
          <p:nvPr/>
        </p:nvCxnSpPr>
        <p:spPr>
          <a:xfrm>
            <a:off x="3657600" y="5105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AutoShape 9"/>
          <p:cNvCxnSpPr>
            <a:stCxn id="376" idx="2"/>
            <a:endCxn id="375" idx="2"/>
          </p:cNvCxnSpPr>
          <p:nvPr/>
        </p:nvCxnSpPr>
        <p:spPr>
          <a:xfrm flipH="1" rot="10800000">
            <a:off x="2894400" y="2361600"/>
            <a:ext cx="2520" cy="2743920"/>
          </a:xfrm>
          <a:prstGeom prst="curvedConnector5">
            <a:avLst>
              <a:gd name="adj1" fmla="val -40600000"/>
              <a:gd name="adj2" fmla="val 49993"/>
              <a:gd name="adj3" fmla="val -40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1" name="AutoShape 10"/>
          <p:cNvCxnSpPr>
            <a:stCxn id="377" idx="5"/>
            <a:endCxn id="377" idx="3"/>
          </p:cNvCxnSpPr>
          <p:nvPr/>
        </p:nvCxnSpPr>
        <p:spPr>
          <a:xfrm rot="5400000">
            <a:off x="5865840" y="5105880"/>
            <a:ext cx="2520" cy="540360"/>
          </a:xfrm>
          <a:prstGeom prst="curvedConnector5">
            <a:avLst>
              <a:gd name="adj1" fmla="val 21400000"/>
              <a:gd name="adj2" fmla="val 50000"/>
              <a:gd name="adj3" fmla="val 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2" name="AutoShape 11"/>
          <p:cNvCxnSpPr>
            <a:stCxn id="374" idx="1"/>
            <a:endCxn id="374" idx="7"/>
          </p:cNvCxnSpPr>
          <p:nvPr/>
        </p:nvCxnSpPr>
        <p:spPr>
          <a:xfrm flipH="1" rot="16200000">
            <a:off x="5866560" y="1823040"/>
            <a:ext cx="2160" cy="54036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3" name="AutoShape 12"/>
          <p:cNvCxnSpPr>
            <a:stCxn id="375" idx="1"/>
            <a:endCxn id="375" idx="7"/>
          </p:cNvCxnSpPr>
          <p:nvPr/>
        </p:nvCxnSpPr>
        <p:spPr>
          <a:xfrm flipH="1" rot="16200000">
            <a:off x="3275640" y="1823040"/>
            <a:ext cx="2160" cy="54036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4" name="AutoShape 13"/>
          <p:cNvCxnSpPr>
            <a:stCxn id="376" idx="3"/>
            <a:endCxn id="376" idx="5"/>
          </p:cNvCxnSpPr>
          <p:nvPr/>
        </p:nvCxnSpPr>
        <p:spPr>
          <a:xfrm flipH="1" rot="16200000">
            <a:off x="3274560" y="5105880"/>
            <a:ext cx="2520" cy="540360"/>
          </a:xfrm>
          <a:prstGeom prst="curvedConnector5">
            <a:avLst>
              <a:gd name="adj1" fmla="val 21400000"/>
              <a:gd name="adj2" fmla="val 50000"/>
              <a:gd name="adj3" fmla="val 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5" name="Text Box 14"/>
          <p:cNvSpPr/>
          <p:nvPr/>
        </p:nvSpPr>
        <p:spPr>
          <a:xfrm>
            <a:off x="594360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335268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5943600" y="5410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7"/>
          <p:cNvSpPr/>
          <p:nvPr/>
        </p:nvSpPr>
        <p:spPr>
          <a:xfrm>
            <a:off x="3352680" y="5410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4343400" y="4648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4343400" y="1905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2209680" y="3352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,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AutoShape 21"/>
          <p:cNvCxnSpPr>
            <a:stCxn id="376" idx="7"/>
            <a:endCxn id="374" idx="3"/>
          </p:cNvCxnSpPr>
          <p:nvPr/>
        </p:nvCxnSpPr>
        <p:spPr>
          <a:xfrm flipV="1">
            <a:off x="3546360" y="2631240"/>
            <a:ext cx="2052000" cy="22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3" name="Text Box 22"/>
          <p:cNvSpPr/>
          <p:nvPr/>
        </p:nvSpPr>
        <p:spPr>
          <a:xfrm>
            <a:off x="4343400" y="3657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F07A-0588-46AB-9388-F897E774A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Covariance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Object 3"/>
          <p:cNvGraphicFramePr/>
          <p:nvPr/>
        </p:nvGraphicFramePr>
        <p:xfrm>
          <a:off x="1774800" y="1711440"/>
          <a:ext cx="246852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1711440"/>
                    <a:ext cx="246852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4"/>
          <p:cNvGraphicFramePr/>
          <p:nvPr/>
        </p:nvGraphicFramePr>
        <p:xfrm>
          <a:off x="1784520" y="2352600"/>
          <a:ext cx="732780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4520" y="2352600"/>
                    <a:ext cx="73278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5"/>
          <p:cNvGraphicFramePr/>
          <p:nvPr/>
        </p:nvGraphicFramePr>
        <p:xfrm>
          <a:off x="1585800" y="4944960"/>
          <a:ext cx="467532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85800" y="4944960"/>
                    <a:ext cx="46753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1635120" y="5648400"/>
          <a:ext cx="5603760" cy="59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35120" y="5648400"/>
                    <a:ext cx="560376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7"/>
          <p:cNvGraphicFramePr/>
          <p:nvPr/>
        </p:nvGraphicFramePr>
        <p:xfrm>
          <a:off x="1600200" y="4367160"/>
          <a:ext cx="2819520" cy="61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4367160"/>
                    <a:ext cx="281952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Text Box 8"/>
          <p:cNvSpPr/>
          <p:nvPr/>
        </p:nvSpPr>
        <p:spPr>
          <a:xfrm>
            <a:off x="685800" y="11271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Variance Expectations (Select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685800" y="3649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variance Expectations (Select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33AC-AFDF-4897-B765-578AD30BF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Covariance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Oval 3"/>
          <p:cNvSpPr/>
          <p:nvPr/>
        </p:nvSpPr>
        <p:spPr>
          <a:xfrm>
            <a:off x="6477120" y="1981080"/>
            <a:ext cx="76176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4"/>
          <p:cNvSpPr/>
          <p:nvPr/>
        </p:nvSpPr>
        <p:spPr>
          <a:xfrm>
            <a:off x="388620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5"/>
          <p:cNvSpPr/>
          <p:nvPr/>
        </p:nvSpPr>
        <p:spPr>
          <a:xfrm>
            <a:off x="388620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6"/>
          <p:cNvSpPr/>
          <p:nvPr/>
        </p:nvSpPr>
        <p:spPr>
          <a:xfrm>
            <a:off x="6477120" y="4724280"/>
            <a:ext cx="76176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AutoShape 7"/>
          <p:cNvCxnSpPr>
            <a:stCxn id="413" idx="6"/>
            <a:endCxn id="412" idx="2"/>
          </p:cNvCxnSpPr>
          <p:nvPr/>
        </p:nvCxnSpPr>
        <p:spPr>
          <a:xfrm>
            <a:off x="4648320" y="2361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AutoShape 8"/>
          <p:cNvCxnSpPr>
            <a:stCxn id="414" idx="6"/>
            <a:endCxn id="415" idx="2"/>
          </p:cNvCxnSpPr>
          <p:nvPr/>
        </p:nvCxnSpPr>
        <p:spPr>
          <a:xfrm>
            <a:off x="4648320" y="5105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Text Box 9"/>
          <p:cNvSpPr/>
          <p:nvPr/>
        </p:nvSpPr>
        <p:spPr>
          <a:xfrm>
            <a:off x="5334120" y="4648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5334120" y="1905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"/>
          <p:cNvSpPr/>
          <p:nvPr/>
        </p:nvSpPr>
        <p:spPr>
          <a:xfrm rot="16200000">
            <a:off x="1905120" y="3238560"/>
            <a:ext cx="914400" cy="8380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AutoShape 12"/>
          <p:cNvCxnSpPr>
            <a:stCxn id="420" idx="3"/>
            <a:endCxn id="413" idx="2"/>
          </p:cNvCxnSpPr>
          <p:nvPr/>
        </p:nvCxnSpPr>
        <p:spPr>
          <a:xfrm flipV="1">
            <a:off x="2781000" y="2361960"/>
            <a:ext cx="11055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AutoShape 13"/>
          <p:cNvCxnSpPr>
            <a:stCxn id="420" idx="3"/>
            <a:endCxn id="414" idx="1"/>
          </p:cNvCxnSpPr>
          <p:nvPr/>
        </p:nvCxnSpPr>
        <p:spPr>
          <a:xfrm>
            <a:off x="2781360" y="3657600"/>
            <a:ext cx="121680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Text Box 14"/>
          <p:cNvSpPr/>
          <p:nvPr/>
        </p:nvSpPr>
        <p:spPr>
          <a:xfrm>
            <a:off x="3352680" y="26668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3352680" y="38862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6"/>
          <p:cNvSpPr/>
          <p:nvPr/>
        </p:nvSpPr>
        <p:spPr>
          <a:xfrm flipH="1" rot="16200000">
            <a:off x="1713240" y="3466800"/>
            <a:ext cx="457200" cy="38124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AutoShape 17"/>
          <p:cNvCxnSpPr>
            <a:stCxn id="414" idx="7"/>
            <a:endCxn id="412" idx="3"/>
          </p:cNvCxnSpPr>
          <p:nvPr/>
        </p:nvCxnSpPr>
        <p:spPr>
          <a:xfrm flipV="1">
            <a:off x="4536720" y="2631240"/>
            <a:ext cx="2051640" cy="22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Text Box 18"/>
          <p:cNvSpPr/>
          <p:nvPr/>
        </p:nvSpPr>
        <p:spPr>
          <a:xfrm>
            <a:off x="5410080" y="3657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DA98-EB4E-456A-A36F-022A47CD9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Mean Expec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3"/>
          <p:cNvGraphicFramePr/>
          <p:nvPr/>
        </p:nvGraphicFramePr>
        <p:xfrm>
          <a:off x="846000" y="1704960"/>
          <a:ext cx="3489480" cy="12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1704960"/>
                    <a:ext cx="348948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4"/>
          <p:cNvGraphicFramePr/>
          <p:nvPr/>
        </p:nvGraphicFramePr>
        <p:xfrm>
          <a:off x="838080" y="3657600"/>
          <a:ext cx="7508880" cy="171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657600"/>
                    <a:ext cx="750888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A943-31CB-44D2-9D70-351EAA9BF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n Squares and Mean Expec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1371600" y="5335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4038480" y="5335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4"/>
          <p:cNvSpPr/>
          <p:nvPr/>
        </p:nvSpPr>
        <p:spPr>
          <a:xfrm>
            <a:off x="6477120" y="53352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5"/>
          <p:cNvCxnSpPr>
            <a:stCxn id="438" idx="3"/>
            <a:endCxn id="439" idx="1"/>
          </p:cNvCxnSpPr>
          <p:nvPr/>
        </p:nvCxnSpPr>
        <p:spPr>
          <a:xfrm>
            <a:off x="2514240" y="110448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AutoShape 6"/>
          <p:cNvCxnSpPr>
            <a:stCxn id="440" idx="2"/>
            <a:endCxn id="439" idx="3"/>
          </p:cNvCxnSpPr>
          <p:nvPr/>
        </p:nvCxnSpPr>
        <p:spPr>
          <a:xfrm flipH="1">
            <a:off x="5180760" y="110448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Freeform 7"/>
          <p:cNvSpPr/>
          <p:nvPr/>
        </p:nvSpPr>
        <p:spPr>
          <a:xfrm rot="5400000">
            <a:off x="7467480" y="8380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971800" y="4572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"/>
          <p:cNvSpPr/>
          <p:nvPr/>
        </p:nvSpPr>
        <p:spPr>
          <a:xfrm>
            <a:off x="1371600" y="281952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AutoShape 12"/>
          <p:cNvCxnSpPr>
            <a:stCxn id="445" idx="5"/>
          </p:cNvCxnSpPr>
          <p:nvPr/>
        </p:nvCxnSpPr>
        <p:spPr>
          <a:xfrm flipV="1">
            <a:off x="2228400" y="1676160"/>
            <a:ext cx="1810440" cy="17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AutoShape 13"/>
          <p:cNvCxnSpPr>
            <a:stCxn id="445" idx="0"/>
            <a:endCxn id="438" idx="2"/>
          </p:cNvCxnSpPr>
          <p:nvPr/>
        </p:nvCxnSpPr>
        <p:spPr>
          <a:xfrm flipV="1">
            <a:off x="1942920" y="167580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Freeform 14"/>
          <p:cNvSpPr/>
          <p:nvPr/>
        </p:nvSpPr>
        <p:spPr>
          <a:xfrm flipH="1" rot="16200000">
            <a:off x="761760" y="8380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5"/>
          <p:cNvSpPr/>
          <p:nvPr/>
        </p:nvSpPr>
        <p:spPr>
          <a:xfrm flipH="1" rot="10800000">
            <a:off x="1599120" y="3962160"/>
            <a:ext cx="685800" cy="533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6"/>
          <p:cNvSpPr/>
          <p:nvPr/>
        </p:nvSpPr>
        <p:spPr>
          <a:xfrm>
            <a:off x="2895480" y="169236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1905120" y="19810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5715000" y="563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19"/>
          <p:cNvGraphicFramePr/>
          <p:nvPr/>
        </p:nvGraphicFramePr>
        <p:xfrm>
          <a:off x="5127480" y="3376440"/>
          <a:ext cx="330840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7480" y="3376440"/>
                    <a:ext cx="33084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20"/>
          <p:cNvGraphicFramePr/>
          <p:nvPr/>
        </p:nvGraphicFramePr>
        <p:xfrm>
          <a:off x="5067360" y="4308480"/>
          <a:ext cx="192708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6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4308480"/>
                    <a:ext cx="19270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21"/>
          <p:cNvGraphicFramePr/>
          <p:nvPr/>
        </p:nvGraphicFramePr>
        <p:xfrm>
          <a:off x="5092560" y="2889360"/>
          <a:ext cx="162432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2560" y="2889360"/>
                    <a:ext cx="16243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22"/>
          <p:cNvSpPr/>
          <p:nvPr/>
        </p:nvSpPr>
        <p:spPr>
          <a:xfrm>
            <a:off x="4724280" y="2438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Vari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72428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Covar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Object 24"/>
          <p:cNvGraphicFramePr/>
          <p:nvPr/>
        </p:nvGraphicFramePr>
        <p:xfrm>
          <a:off x="4965840" y="5827680"/>
          <a:ext cx="233676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2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65840" y="5827680"/>
                    <a:ext cx="23367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25"/>
          <p:cNvGraphicFramePr/>
          <p:nvPr/>
        </p:nvGraphicFramePr>
        <p:xfrm>
          <a:off x="5029200" y="5326200"/>
          <a:ext cx="144792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4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326200"/>
                    <a:ext cx="14479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Text Box 26"/>
          <p:cNvSpPr/>
          <p:nvPr/>
        </p:nvSpPr>
        <p:spPr>
          <a:xfrm>
            <a:off x="4724280" y="4913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Me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4D45-D4B0-44BD-B2B6-01531D64F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Object 3"/>
          <p:cNvGraphicFramePr/>
          <p:nvPr/>
        </p:nvGraphicFramePr>
        <p:xfrm>
          <a:off x="363600" y="506520"/>
          <a:ext cx="503280" cy="53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9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600" y="506520"/>
                    <a:ext cx="503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30"/>
          <p:cNvGraphicFramePr/>
          <p:nvPr/>
        </p:nvGraphicFramePr>
        <p:xfrm>
          <a:off x="8061480" y="428760"/>
          <a:ext cx="511200" cy="608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1" name="Object 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61480" y="428760"/>
                    <a:ext cx="5112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ebraic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s can be calculated using symbolic matrix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involved for “Intro to S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s same expectations as do tracing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helpful for very complex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s to what is going on “under the hood” as programs fit model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7C1D-94A5-4F44-BC7E-A19AC907C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rious Definition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statistical statement about relations among chose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pattern of (linear) relations among a set of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of statistical techniques that allow examination of sets of relations among one or more IVs (continuous or discrete) and one or more DVs (continuous or discr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8393-3071-441D-9553-B6CA1B5B5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 Progra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amp; Modeling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A2ED-0D7C-4B62-8E52-3688EFED9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general program, several distinct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EM program, commonly used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use, words with SP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through 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v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good program, available through R (and fre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D2FC-31CC-4786-AF1B-CCF9D5E97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for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rly, used summary data (correlations, covariances,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grams now read “raw”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start with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ardless of data (raw data, covariance matrices), be sure to export data from commonly used stat package (SAS, SPSS, R, St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check your data after SEM program reads data to make sure everything m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4282-F634-43D2-A2FB-6A60454E5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s in Statistical Analysis: SEER _ 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Specification – develop equations that match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tical conj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Estimation – obtain best-fit 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Evaluation – evaluate overall model fit, evaluate 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: Readjustment – re-specify model to yield better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tical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: Model Comparison – compare fit of alternative model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tep added by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183B-141B-47E3-9367-90745D1FF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t model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ed model will not fit data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ors of model mis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ors of mode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C61B-826C-49D7-AD50-67729CC85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Statistical indicator of mi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-square value based on misfit to data, so higher chi-square is not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s of freedom (df): Difference between number of sample statistics (covariances, plus means [if modeled]) and number of parameters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chi-square provides statistical basis for rejecting model in favor of an unspecified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different alternative estimators (e.g., robu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deal with simple maximum likelihood (ML) chi-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0CA6-F85A-4611-9B6C-5869273EC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Absolute misfit (higher levels b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Mean Square Error of Approximation (RMS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     &lt; .05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.05 - .08: 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.08 - .10: Poor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     &gt; .10: Un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al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ower bound includes .05, cannot reject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d root mean residual (SRMR) corre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: &lt; .06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5E4B-3F94-498B-A4AD-BFB0D414D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Relative fit, or fit relative to null model, so higher levels are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cker-Lewis index (T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     &gt; .95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.90 - .95: 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     &lt; .90: Un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, do not use these as hard-and-fast cutoffs (!#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fit index (C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, same cutoffs as the T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FI seems less sensitive to model comparisons than does T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Widaman &amp; Thompson (2003, Psychological Methods) fo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FC61-1DB4-4423-9C99-D5108EA88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ACFA-4DB9-4AC3-B1FA-E9E512F96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767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occupational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grade point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educational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occup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27E8-58FE-423E-9FA0-70A4B334B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Advantag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representation of theory (no default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s of complex multivariate theories involving latent entitie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and indirect effects can be teased a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/ comparison of multipl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ular variables can be both outcomes (DVs) and predictors (IVs) in the sam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data are easy to handle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E66F-9272-416B-B220-24AA9BDF8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ad_ed dad_occ grades ed_exp  asp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1.000  0.277   0.250  0.572  0.489  0.3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0.277  1.000   0.611  0.294  0.446  0.3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0.250  0.611   1.000  0.248  0.410  0.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0.572  0.294   0.248  1.000  0.597  0.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0.489  0.446   0.410  0.597  1.000  0.6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  0.335  0.303   0.331  0.478  0.651 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C0EC-393D-4E05-9F7F-0AA2F0DE6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699E-65FD-48C9-A073-12CBA7A00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707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1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int + dad_occ +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836A-D92A-4A4E-815C-2B6446CC6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56    0.037    4.262    0.000    0.156    0.1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41    0.034   -1.209    0.22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-0.041   -0.0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079    0.029    2.711    0.007    0.079    0.0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45    0.036   14.983    0.000    0.545    0.5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F890-8D4C-4735-8BE6-52FB895F8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467E-6D06-40B2-B3DA-B9BC5A3CB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drop 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2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*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dad_occ + ed_ex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610A-84B4-402F-A9A3-D8139909B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38    0.033    4.134    0.000    0.138    0.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77    0.029    2.628    0.009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77    0.0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37    0.036   15.040    0.000    0.537    0.5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5909-1E2C-43C9-B24C-429E4E75E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9E46-6E4E-4231-B032-68D0DC5C0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drop 2nd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3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*int + 0*dad_occ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 ed_ex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04D6-9346-4578-802C-ECA35AF50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39    0.034    4.134    0.000    0.139    0.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68    0.034   16.807    0.000    0.568    0.5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FBC4-61B9-4E83-B56D-285132732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Disadvantag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(strong) substantive theory regarding relations among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large sample size (us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basic understanding of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 to temptation, “when the tail wags the do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to consider equivalent models weakens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s too easily to statements regarding cau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E709-7DA2-4DDE-9E48-3E9124E0F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C610-ED4E-4347-ACDE-760B5D186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9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34, .09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26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equate 2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4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b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*grad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0*int + 0*dad_occ +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b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*ed_ex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 using same "name" for coe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364D-4112-4ED8-BA3C-4EEC32636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b1)    0.353    0.016   22.450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353    0.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000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000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b1)    0.353    0.016   22.450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353    0.3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C73D-AA05-4591-A82D-0E0CDBBDC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565E-647B-45EA-85CD-DA81DEE95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9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21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34, .09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26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92, .142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.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it is fine, but one non-significant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 is probably the optim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, given its greater parsimony, is att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 had much worse fit, so unacceptable on all 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let’s look at Model 2, with 4 sizeabl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education direct effect on son’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intelligence direct effect on his 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grades direct effect on educational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educational expectations direct effect on occup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0B7D-D69C-483A-918F-2FD5B6310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2BFA-FA85-4FEE-9029-7A617FE7E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1492200" y="1600200"/>
            <a:ext cx="65851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4388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tal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oeconomic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ademic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ficant other i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C27F-F150-48B0-8828-04E9DB981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SES   AP    SO    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1.000 0.288 0.589 0.438 0.4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0.288 1.000 0.194 0.359 0.3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0.589 0.194 1.000 0.473 0.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0.438 0.359 0.473 1.000 0.6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d_aspir  0.418 0.380 0.459 0.611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d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SES    AP    SO    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D        29.17 11.08 27.05  1.71  0.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6388-3102-4915-9D64-06F9D9C7E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3B95-5FEE-4334-B494-AAC022281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1143000" y="1725480"/>
            <a:ext cx="7010280" cy="45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ty little secret/assumption about regres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variables are measured without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is assumption is not met with these data: All variables in this model are measured with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ear what effect this might have on mode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happen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171B-1BD8-481D-8444-4F49972C2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al Cas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linear model (t-tests, regression, multiple regression, ANOVA, ANCOV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atory fact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t variable path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itudinal data analytic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order autoregressive and cross-lagg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growth curv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difference scor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DDAB-C3F2-4B27-8542-E2A6EB011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1.mv = 'ap 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~ ma + sesr +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~ ap +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ea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BD2D-B39B-49CE-830E-A1370E3B6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            0.546    0.011   48.280    0.000    0.546    0.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            0.010    0.001   11.260    0.000    0.010    0.1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            0.038    0.002   18.848    0.000    0.038    0.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            0.020    0.001   20.745    0.000    0.020    0.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a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            0.008    0.000   16.699    0.000    0.008    0.2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             0.280    0.007   38.617    0.000    0.280    0.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~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           93.113    5.079   18.333    0.000   93.113    0.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3270-BEC2-4AD8-91B6-AAD656BA2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64D5-74E7-4E44-8774-F7514E5EE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esty is the best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honest about what you are doing, which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elaborate graphic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elaborate (but more adaptable) model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looks lik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46DB-1A90-4813-A95A-FB158D67A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” hypothesized model: Mod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B9F3-E81E-48E6-A56D-BF6A287C4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698480" y="1523880"/>
            <a:ext cx="653112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“re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2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  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0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0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0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0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0*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C998-A274-44F9-A8CC-5ECECCBD8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“re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mentabil + ses + 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acadperf + 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895C-D489-4490-9A04-92025BB47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546    0.011   48.280    0.000    0.589    0.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010    0.001   11.260    0.000    0.179    0.1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 0.038    0.002   18.848    0.000    0.246    0.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20    0.001   20.745    0.000    0.321    0.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08    0.000   16.699    0.000    0.219    0.2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        0.280    0.007   38.617    0.000    0.507    0.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93.113    5.079   18.333    0.000    0.288    0.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21D3-31B5-4106-8BBE-03FCAF47F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0D37-0F9C-4518-BAEC-D6AA93984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with expanded representation, for Model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 specification, correct for un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“residual” variance of MVs to unreliable var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eliabilit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de: KR20 and KR21 reliability coefficients wer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mulas in Kuder &amp; Richardson (19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W1 estimate of reliability = first thing that popped into Keith Widaman’s head when he read about M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H2 estimate of reliability = second thoughts on reliability by Jonathan Helm, a former grad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180D-310C-464E-AF04-D9981403C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Object 2"/>
          <p:cNvGraphicFramePr/>
          <p:nvPr/>
        </p:nvGraphicFramePr>
        <p:xfrm>
          <a:off x="1676520" y="2514600"/>
          <a:ext cx="43462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43462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S Proc 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903C-7528-4C17-BBED-44B5D770D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0" y="1066680"/>
            <a:ext cx="4419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Co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at RAMO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: lava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use let’s perform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KW1   JH2    Unrel. var = (1 - rxx) * variance of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9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me    for ma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9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850.597 =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51.03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85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me    for sesr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8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122.944 =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8.44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.90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7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for ap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7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731.703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19.5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 .70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for so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  2.924 =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1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me    for ma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  0.887 =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.3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use above calculations in model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7FDD-A1C8-4DC3-8DBE-D131763B8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“correcte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3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51.0358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8.4416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219.5108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.1112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.3195*e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C6D7-4978-4256-8960-D29D5426B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“correcte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start(799.34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104.47)*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093.36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start(241.51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tart(000.64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start(000.02)*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start(0.582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start(0.001)*mentabil + start(0.046)*ses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0.038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start(-.002)*acadperf + start(0.577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CA2D-60ED-4D29-8B91-E284BAE3D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8353-E9AA-42E9-A98F-460F249EE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3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582    0.012   48.247    0.000    0.727    0.7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00    0.001   -0.36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0.715   -0.010   -0.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 0.046    0.002   20.915    0.000    0.354    0.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38    0.002   20.607    0.000    0.647    0.6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02    0.001   -1.713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87   -0.063   -0.0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        0.577    0.022   26.241    0.000    1.025    1.0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93.356    5.075   18.394    0.000    0.323    0.3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4389-962E-47B5-BE23-8824A2E53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data s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1, 2, and 3 are “the same model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equal number of path coefficients, hence 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1 and 2 lea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fit: mixed, generally unaccep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parameter estimates, and SEs: all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has alter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: now acceptable on all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 estimates and 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, two estimates are non-signific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s to Model 4, dropping two path coeffic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D9A6-0EB2-4C3E-942D-42B22AF16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final trimm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4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 51.0358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 18.4416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219.5108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  1.1112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  0.3195*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A09D-37DB-41DD-B10D-23E5B6DF1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final trimm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start(799.34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104.47)*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093.36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start(241.51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tart(000.64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start(000.02)*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acadperf ~ start(0.582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igother ~ start(0.046)*ses + start(0.038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edaspire ~ start(0.577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BDDF-5BD9-48AA-8ABE-8195B7624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2EEB-C96B-4E7F-85EE-ADCA597C7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3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2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and 2 generally un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is surely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mmed Model 4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simoni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path coefficien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ability to academic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 and academic performance to significant others’ 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other’s influence to educational aspi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E13B-5E21-43C6-856D-C3ECD0B0B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ying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SEM concerns relations among variables, emphasis often centers on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can be added to models, needed for som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ritten at level of observations (!), so can be fit to raw scores for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 attempts to explain associations present in data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simo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ch between observed data and hypothesized model is referred to as Model Fit (e.g., fit statis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used most profitably when comparing fit of alternativ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E296-4800-4240-8111-5F54D3AD6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Model 4, raw score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BB2C-5378-4D11-B5D5-402B197A7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3" descr=""/>
          <p:cNvPicPr/>
          <p:nvPr/>
        </p:nvPicPr>
        <p:blipFill>
          <a:blip r:embed="rId1"/>
          <a:stretch/>
        </p:blipFill>
        <p:spPr>
          <a:xfrm>
            <a:off x="1447920" y="1843200"/>
            <a:ext cx="5867280" cy="42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Model 4, standardize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A7D4-6357-4DBB-BAE1-F4EEEA57A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3" descr=""/>
          <p:cNvPicPr/>
          <p:nvPr/>
        </p:nvPicPr>
        <p:blipFill>
          <a:blip r:embed="rId1"/>
          <a:stretch/>
        </p:blipFill>
        <p:spPr>
          <a:xfrm>
            <a:off x="1447920" y="1835280"/>
            <a:ext cx="586728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301 junior high schoo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: 9 ability variables (selected from 26),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ability (S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 perception, cubes, loz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bal comprehension (V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graph comprehension, sentence comprehension, word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ual speed (P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, counting dots, straight-and-curved capital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82E5-9F52-4C99-BAD4-5D1E5E4F8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we might 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ingle factor adequate to represent covariances among the 9 manifest variab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ypothesized 3-factor structure fit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ypothesized 3-factor structure fit well enough or does it need modif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e identify a general factor from these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a figural portrayal of the model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7252-2911-4571-9399-03691B81C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Gener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0817-5C74-42A6-A1F2-E0E111C7F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1676520" y="2728800"/>
            <a:ext cx="647676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6104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General model with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6306-4E74-48B8-B468-191C66164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952560" y="1731960"/>
            <a:ext cx="7238880" cy="46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s.model1 =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loadings of MVs on LVs in Lambda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visperc  + cubes    + loz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=~ paracomp + sentcomp + word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=~ addition + countdot + scc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1 = cfa(hs.model1, data = hs39ra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ary(fit1, fit.measures = TRUE, standardized = TR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pect(fi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1 = modificationIndices(fi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(MI1, mi &gt;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B4C1-8325-4E57-A57B-F2E9ED060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30AB-8B8D-4214-B931-3AC237141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71, .1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sperc           1.000                               5.398    0.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s             0.369    0.066    5.554    0.000    1.992    0.4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zenges          0.972    0.145    6.685    0.000    5.249    0.5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=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comp          1.000                               2.969    0.8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comp          1.484    0.087   17.014    0.000    4.406    0.8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mean          2.161    0.129   16.703    0.000    6.416    0.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          1.000                              14.248    0.5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t          1.026    0.143    7.152    0.000   14.619    0.7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1.693    0.237    7.155    0.000   24.119    0.6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~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         7.348    1.323    5.552    0.000    0.459    0.4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36.187    7.766    4.660    0.000    0.471    0.4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11.971    3.403    3.518    0.000    0.283    0.2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E2FF-1CFC-4840-908C-C41635100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1 = modificationIndices(fi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1, mi &gt;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 rhs     mi      epc 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8  spatial =~ addition 18.631   -1.617   -8.729   -0.349   -0.3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spatial =~   sccaps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6.41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3.462   18.688    0.515    0.5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6 addition ~~ countdot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4.14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246.764  246.764    0.488    0.4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8 countdot ~~   sccaps 14.946 -304.628 -304.628   -0.415   -0.4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6797-829B-4C33-B865-9DBE37348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Widaman</dc:creator>
  <dc:description/>
  <dc:language>en-US</dc:language>
  <cp:lastModifiedBy>GRAD QUANT</cp:lastModifiedBy>
  <dcterms:modified xsi:type="dcterms:W3CDTF">2016-05-11T19:18:29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